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591-94C1-48E3-8B87-E7FA6456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A6E-BDC1-4697-A62A-4CE54FE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5A1-D7EC-4CE8-B17D-32D90260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654-8DF3-4769-980A-E190835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BC5-E3DF-416B-996D-8D5A98C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923-5B54-4F96-91CA-ED3981CE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E06-4D53-4F40-8A5A-0A699C17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AF7-6074-4D7D-8BA2-A187C429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292-6DAC-4295-9F63-7277830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928-8687-4382-B859-FAE224F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42A-1AC3-42DE-8561-14F5080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501-795D-43FA-BD90-51ADE77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6751-BCC0-4544-83CC-37DE1D8AE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709720" y="1909800"/>
            <a:ext cx="3724560" cy="30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 conditionnel 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ésent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   françai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8" descr="C:\Users\pluckett\AppData\Local\Microsoft\Windows\Temporary Internet Files\Content.IE5\SB7FY8MW\MP900405290[1].jpg"/>
          <p:cNvPicPr/>
          <p:nvPr/>
        </p:nvPicPr>
        <p:blipFill>
          <a:blip r:embed="rId1"/>
          <a:stretch/>
        </p:blipFill>
        <p:spPr>
          <a:xfrm>
            <a:off x="6019920" y="2971800"/>
            <a:ext cx="257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28800" y="1066680"/>
            <a:ext cx="579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00ff"/>
                </a:solidFill>
                <a:latin typeface="Times New Roman"/>
                <a:ea typeface="Arial Unicode MS"/>
              </a:rPr>
              <a:t>Remarque :</a:t>
            </a: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es verbes qui sont irréguliers au futur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nt aussi irréguli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u conditionnel présent 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752480" y="380880"/>
            <a:ext cx="688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emple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les </a:t>
            </a:r>
            <a:r>
              <a:rPr b="0" lang="fr-BE" sz="32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verbes à changements ortographiques</a:t>
            </a:r>
            <a:r>
              <a:rPr b="0" lang="fr-BE" sz="32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 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7240" y="1523880"/>
            <a:ext cx="336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 je pa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su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 tu essu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netto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il netto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546440" y="1812960"/>
            <a:ext cx="38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Le  </a:t>
            </a:r>
            <a:r>
              <a:rPr b="1" i="1" lang="fr-FR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« 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y</a:t>
            </a:r>
            <a:r>
              <a:rPr b="1" i="1" lang="fr-FR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 » </a:t>
            </a: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devi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</a:t>
            </a:r>
            <a:r>
              <a:rPr b="1" i="1" lang="fr-FR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« 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i</a:t>
            </a:r>
            <a:r>
              <a:rPr b="1" i="1" lang="fr-FR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 » </a:t>
            </a: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devant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ff9933"/>
                </a:solidFill>
                <a:uFillTx/>
                <a:latin typeface="ZapfHumnst BT"/>
                <a:ea typeface="Arial"/>
              </a:rPr>
              <a:t>« e » mue</a:t>
            </a:r>
            <a:r>
              <a:rPr b="1" i="1" lang="en-US" sz="3600" spc="-1" strike="noStrike" u="sng">
                <a:solidFill>
                  <a:srgbClr val="ff9933"/>
                </a:solidFill>
                <a:uFillTx/>
                <a:latin typeface="ZapfHumnst BT"/>
                <a:ea typeface="Arial"/>
              </a:rPr>
              <a:t>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76400" y="1600200"/>
            <a:ext cx="764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prom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n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 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ous prom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er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mm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n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  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tu emm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erai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p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s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on p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1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ser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13360" y="4222800"/>
            <a:ext cx="72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Les verbes  en «e + consonne+ er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changent le premier «e » en «è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devant un «e muet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827720" y="1130400"/>
            <a:ext cx="488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1" lang="fr-FR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t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nous je</a:t>
            </a:r>
            <a:r>
              <a:rPr b="1" lang="fr-FR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tt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ppe</a:t>
            </a:r>
            <a:r>
              <a:rPr b="1" lang="fr-FR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l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ls appe</a:t>
            </a:r>
            <a:r>
              <a:rPr b="1" lang="fr-FR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ll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a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670040" y="2577960"/>
            <a:ext cx="603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Les verbes en «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-</a:t>
            </a: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ler » et en «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-</a:t>
            </a: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ter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doublent  cette conson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devant un «e » mu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055880" y="4235400"/>
            <a:ext cx="67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33cc"/>
                </a:solidFill>
                <a:uFillTx/>
                <a:latin typeface="Times New Roman"/>
                <a:ea typeface="Times New Roman"/>
              </a:rPr>
              <a:t>exception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: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eter --&gt; j’ach</a:t>
            </a:r>
            <a:r>
              <a:rPr b="0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è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i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3880" y="1219320"/>
            <a:ext cx="5769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Essayez de deviner 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onditionnel prés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s verbes irréguli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suivan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5840" y="12193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voi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53200" y="1187280"/>
            <a:ext cx="186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’a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59000" y="228600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lle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87760" y="2209680"/>
            <a:ext cx="140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’i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15840" y="35053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faire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622240" y="3352680"/>
            <a:ext cx="206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fe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63560" y="44197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devoi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612880" y="4419720"/>
            <a:ext cx="24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dev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71120" y="228600"/>
            <a:ext cx="11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ê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4120" y="22860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se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66360" y="990720"/>
            <a:ext cx="201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ou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164560" y="838080"/>
            <a:ext cx="27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p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57440" y="1752480"/>
            <a:ext cx="159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cour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111640" y="1523880"/>
            <a:ext cx="26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c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59160" y="2438280"/>
            <a:ext cx="182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mour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165640" y="2286000"/>
            <a:ext cx="29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m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56640" y="3200400"/>
            <a:ext cx="211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rece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100840" y="3048120"/>
            <a:ext cx="288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recev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60240" y="3809880"/>
            <a:ext cx="16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sa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100120" y="3733920"/>
            <a:ext cx="244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sa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98680" y="441972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fall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122440" y="4419720"/>
            <a:ext cx="24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il faudr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98320" y="5105520"/>
            <a:ext cx="18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voul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110560" y="5105520"/>
            <a:ext cx="27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voud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42080" y="1676520"/>
            <a:ext cx="7288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Quand utilise-t-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le conditionne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présent ?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063520" y="685800"/>
            <a:ext cx="476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 u="sng">
                <a:solidFill>
                  <a:srgbClr val="cc00ff"/>
                </a:solidFill>
                <a:uFillTx/>
                <a:latin typeface="ZapfHumnst BT"/>
                <a:ea typeface="Times New Roman"/>
              </a:rPr>
              <a:t>pour un conseil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ZapfHumnst BT"/>
                <a:ea typeface="Times New Roman"/>
              </a:rPr>
              <a:t>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5800" y="167652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u </a:t>
            </a:r>
            <a:r>
              <a:rPr b="0" lang="fr-BE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er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eux d’étudier, plut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ô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que de regarder la télé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557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24382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 u="sng">
                <a:solidFill>
                  <a:srgbClr val="cc00ff"/>
                </a:solidFill>
                <a:uFillTx/>
                <a:latin typeface="ZapfHumnst BT"/>
                <a:ea typeface="Times New Roman"/>
              </a:rPr>
              <a:t>pour une action dont la réalisation dépend d’une condition 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ZapfHumnst BT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2716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09480" y="3962520"/>
            <a:ext cx="79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j’avais des vacances, j’</a:t>
            </a:r>
            <a:r>
              <a:rPr b="0" lang="fr-BE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r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élébrer le carnaval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Nouvelle Orléans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76160" y="5137200"/>
            <a:ext cx="70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Dans ces deux cas, le conditionnel 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traduit par « </a:t>
            </a:r>
            <a:r>
              <a:rPr b="0" i="1" lang="fr-BE" sz="32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would </a:t>
            </a: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» en angl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75800" y="822240"/>
            <a:ext cx="566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ditionnel  prés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« vouloir » indique </a:t>
            </a:r>
            <a:r>
              <a:rPr b="0" lang="fr-BE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quête polie</a:t>
            </a: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se tradu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«  </a:t>
            </a:r>
            <a:r>
              <a:rPr b="0" lang="fr-BE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would like</a:t>
            </a: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»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47560" y="3995640"/>
            <a:ext cx="530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 </a:t>
            </a:r>
            <a:r>
              <a:rPr b="0" i="1" lang="fr-BE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voudrais</a:t>
            </a: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ne poutin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’il vous plait 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2438280" y="990720"/>
            <a:ext cx="40388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 conditionnel est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 mode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s un temps. 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296720" y="533520"/>
            <a:ext cx="7140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e conditionnel pré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de  «aimer » indique </a:t>
            </a:r>
            <a:r>
              <a:rPr b="1" lang="fr-BE" sz="3600" spc="-1" strike="noStrike" u="sng">
                <a:solidFill>
                  <a:srgbClr val="3333cc"/>
                </a:solidFill>
                <a:uFillTx/>
                <a:latin typeface="Times New Roman"/>
                <a:ea typeface="Arial Unicode MS"/>
              </a:rPr>
              <a:t>un souhait</a:t>
            </a: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t se traduit aussi par</a:t>
            </a:r>
            <a:r>
              <a:rPr b="1" lang="fr-BE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«</a:t>
            </a:r>
            <a:r>
              <a:rPr b="1" lang="fr-BE" sz="3600" spc="-1" strike="noStrike">
                <a:solidFill>
                  <a:srgbClr val="ff33cc"/>
                </a:solidFill>
                <a:latin typeface="Times New Roman"/>
                <a:ea typeface="Arial Unicode MS"/>
              </a:rPr>
              <a:t>would like</a:t>
            </a: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95280" y="2666880"/>
            <a:ext cx="6797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h, comme j’</a:t>
            </a:r>
            <a:r>
              <a:rPr b="1" lang="fr-BE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aimerais</a:t>
            </a: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oyager en Louisiane 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14300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Faites les e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xercice</a:t>
            </a: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s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 Internet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ligne</a:t>
            </a: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suivants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sur le conditionnel présent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76520" y="1752480"/>
            <a:ext cx="870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ench.about.com/library/weekl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121199t.h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quia.com/servlets/quia.activities.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Player?AP_rand=168742636&amp;AP_activityTyp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&amp;AP_urlId=9758&amp;AP_continuePlay=true&amp;id=9758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2362320" y="1600200"/>
            <a:ext cx="5029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l veut exprimer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rtaines nuances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’action telles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 l’éventualité,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courtoisie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 souhait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'incértitude ..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74880" y="171756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685800"/>
            <a:ext cx="6045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…  </a:t>
            </a:r>
            <a:r>
              <a:rPr b="0" lang="fr-BE" sz="4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On l’utilise aussi pour  exprimer des actions dont la réalisation dépend de certaines cond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357560" y="1295280"/>
            <a:ext cx="52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Comme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forme-t-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le conditionn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prése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71600" y="38088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a formation 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ssez simple 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4320" y="2133720"/>
            <a:ext cx="46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n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ilise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l'infinitif</a:t>
            </a:r>
            <a:r>
              <a:rPr b="0" lang="fr-FR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00200" y="281952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n l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isse tomber le </a:t>
            </a:r>
            <a:r>
              <a:rPr b="1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« e »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quand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'infinitif se termine par </a:t>
            </a:r>
            <a:r>
              <a:rPr b="1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« e ».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39280" y="4267080"/>
            <a:ext cx="700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 On y a</a:t>
            </a:r>
            <a:r>
              <a:rPr b="1" lang="fr-FR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joute </a:t>
            </a:r>
            <a:r>
              <a:rPr b="1" lang="fr-FR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la terminai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    </a:t>
            </a:r>
            <a:r>
              <a:rPr b="1" lang="fr-FR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de l'imparfait</a:t>
            </a:r>
            <a:r>
              <a:rPr b="1" lang="fr-FR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 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IS, AIS, AIT, IONS, IEZ, A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21120" y="45720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ex1 : JOUER </a:t>
            </a:r>
            <a:r>
              <a:rPr b="1" lang="fr-BE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 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je jouer  + AIS etc. --</a:t>
            </a:r>
            <a:r>
              <a:rPr b="1" lang="fr-BE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7040" y="225432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8640" y="2940120"/>
            <a:ext cx="27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u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88920" y="3701880"/>
            <a:ext cx="29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/elle/on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73880" y="4311720"/>
            <a:ext cx="30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u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74240" y="492768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vous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       jouer</a:t>
            </a:r>
            <a:r>
              <a:rPr b="1" lang="fr-BE" sz="2400" spc="-1" strike="noStrike">
                <a:solidFill>
                  <a:srgbClr val="3333cc"/>
                </a:solidFill>
                <a:latin typeface="ZapfHumnst BT"/>
                <a:ea typeface="Times New Roman"/>
              </a:rPr>
              <a:t>iez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39240" y="546084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ils/elles       jouer</a:t>
            </a:r>
            <a:r>
              <a:rPr b="1" lang="fr-BE" sz="2400" spc="-1" strike="noStrike">
                <a:solidFill>
                  <a:srgbClr val="3333cc"/>
                </a:solidFill>
                <a:latin typeface="ZapfHumnst BT"/>
                <a:ea typeface="Times New Roman"/>
              </a:rPr>
              <a:t>a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52240" y="457200"/>
            <a:ext cx="248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2:  FI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finir + ais etc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/elle/on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u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/elle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77400" y="380880"/>
            <a:ext cx="666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ex2 : PRENDRE</a:t>
            </a:r>
            <a:r>
              <a:rPr b="1" lang="fr-BE" sz="36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Je </a:t>
            </a: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+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pren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moins  le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  « e »  </a:t>
            </a: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+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AIS  etc.</a:t>
            </a:r>
            <a:r>
              <a:rPr b="1" lang="fr-BE" sz="36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19280" y="2317680"/>
            <a:ext cx="508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je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tu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il/elle/on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nous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vous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i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ils/elles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Times New Roman"/>
              </a:rPr>
              <a:t>aient</a:t>
            </a:r>
            <a:r>
              <a:rPr b="0" lang="fr-FR" sz="3200" spc="-1" strike="noStrike">
                <a:solidFill>
                  <a:srgbClr val="000000"/>
                </a:solidFill>
                <a:latin typeface="ZapfHumnst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04:24:58Z</dcterms:created>
  <dc:creator>Steve</dc:creator>
  <dc:description/>
  <dc:language>en-US</dc:language>
  <cp:lastModifiedBy>pluckett</cp:lastModifiedBy>
  <dcterms:modified xsi:type="dcterms:W3CDTF">2014-04-08T17:39:54Z</dcterms:modified>
  <cp:revision>68</cp:revision>
  <dc:subject/>
  <dc:title>PowerPoint Presentation</dc:title>
</cp:coreProperties>
</file>